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4.jpeg" ContentType="image/jpe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F4D6-276B-4E20-BB1C-63F144619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E0EF-B3E0-43F6-963F-FDFB4D9D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6487-A5B0-4080-B4C4-10EDC6D79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8CA3-7B1C-48EE-8F59-AFE807CC1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BA3F-4ABF-45A0-8423-8665808FF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F8CD1-3421-41D7-B58C-D1DA401A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E50E-E9B3-4324-A7DD-54BABEBD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4B52-8080-4117-BD46-06E2D922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2FB5-89CE-47F7-B16D-464B2929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053B-63A9-4287-B3EB-55C326D4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5F96F-AF3A-49E9-B187-411E7FAD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8F2B-5D3B-413D-A63E-DDAD6D9F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E7E5-0643-4B8A-9964-EC774249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297D-4BFE-4984-BC9F-F3761094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1A8DE-F50C-4E1D-9777-C0ED5BF8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E3A1-AC12-4752-BA18-3306F4105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F9E9-3974-4D9B-B3B6-AE1E2ED48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40FB9-63D5-4FED-8A93-ADD006209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6609E-527F-4D79-9EEF-5566DE56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5D0DD-9A25-447C-B3CB-DBD8AE55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E3E1B-9AE8-4EED-AFB4-D1CAAB33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EEA72-71DC-4582-B4A9-6902267E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72F2-9D33-4B43-8DA3-7057B13A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1C67E-48E9-406D-A926-59215525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A55D4-2BA2-4478-B388-FFE1AE0B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BE7E9-E26C-43F3-9568-519083DC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A1786-22E6-4CB0-80A0-27877ED5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90A1E-2F15-4CEB-8748-071107C5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FECBD-9A9A-4968-933E-B0F2A159E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64ABA-A429-43C2-9A1B-F3109CA79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34A78-5265-459E-8A89-E89F77FCD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BC7A4-0A71-4E1E-B492-B53FFB84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E1C47-F364-4E7B-88CF-F53E2456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5B3F-95EB-4D17-B7B8-5E2EF84B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F8F30-0060-4307-AD14-7324D7F8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742E1-4622-4B20-B0D5-FDBD1B36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E0EDA-0FCA-479E-B2A6-91F2D15C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94335-C432-4E8D-8F16-B8E9C051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B8E73-F47C-439B-850B-B7333F83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4C4AB-7E93-4FF6-B360-5D00F5C8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2F27D-7E94-49A4-9654-88E34A0C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6AEFB-F48B-4200-8B18-6D6B65066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D9931-C834-41FE-9010-4E6349FA9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60FB7-B5E9-4431-BB2D-0A3E4DE24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EE0A-228B-4375-91FC-962D4334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6536F-1570-4603-B291-8D5ED38B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9019D-9F24-4DAC-86DE-B0021C40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738E1-156F-4468-AE0F-E18501A2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28FD4-3B8D-47B3-910C-76200414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2F166-1C77-48E1-ADC7-AC5EFD06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1BA16-9E65-4354-AD6B-07C9B0E9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C2CEC-F044-4708-AB73-1E2CA187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52953-BC3D-4641-9561-68CE88F1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FAC90-14E4-4711-AB56-12264E0B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A7939-7253-41D7-83B9-A26BF77F9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8F2C-1D44-4C79-B816-ECB1AEA6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B8971-6395-40DB-9850-CC394A0EC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0E52-395F-49D0-A431-D22FC51D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CB5B-8322-42D4-A60F-572F0F7E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5E9E-6519-4B6D-A350-184AB69A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0BB1-A835-4C8D-99BF-FF6ED86A99D6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4DA5-D53B-4C9A-B5C5-E8FB4C3D37AC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CE3F-1691-4B05-966E-F6E9BFE54607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8108-C7D8-4EAD-B434-584DC909E6B8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B0BD-FEF6-4196-AA51-C82D9E28D148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0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ET 504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Visual Introductio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5200560" y="1139760"/>
            <a:ext cx="3625920" cy="206712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5389200" y="3282840"/>
            <a:ext cx="3429000" cy="19209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>
              <a:buClr>
                <a:srgbClr val="f4e7ed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Johnston City, Illinois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4e7ed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1407 Davis Street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4e7ed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Johnston City High School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4e7ed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John A. Logan Colleg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2"/>
          <a:stretch/>
        </p:blipFill>
        <p:spPr>
          <a:xfrm>
            <a:off x="1085760" y="1390680"/>
            <a:ext cx="331488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le 1" descr=""/>
          <p:cNvPicPr/>
          <p:nvPr/>
        </p:nvPicPr>
        <p:blipFill>
          <a:blip r:embed="rId1"/>
          <a:stretch/>
        </p:blipFill>
        <p:spPr>
          <a:xfrm>
            <a:off x="5200560" y="1139760"/>
            <a:ext cx="3625920" cy="20671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389200" y="3282840"/>
            <a:ext cx="3429000" cy="19209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My #1 Fan!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Grandpa Jo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Without him this would impossible!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2"/>
          <a:stretch/>
        </p:blipFill>
        <p:spPr>
          <a:xfrm>
            <a:off x="1085760" y="1616040"/>
            <a:ext cx="291960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119560" cy="2878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lvl="4" marL="18288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58975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rt Collins, C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osc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en Thoma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kund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Picture 5" descr="C:\Users\Tasha\Pictures\2009-10-18\396.JPG"/>
          <p:cNvPicPr/>
          <p:nvPr/>
        </p:nvPicPr>
        <p:blipFill>
          <a:blip r:embed="rId2"/>
          <a:stretch/>
        </p:blipFill>
        <p:spPr>
          <a:xfrm>
            <a:off x="6324480" y="4114800"/>
            <a:ext cx="1752840" cy="12841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"/>
          <p:cNvPicPr/>
          <p:nvPr/>
        </p:nvPicPr>
        <p:blipFill>
          <a:blip r:embed="rId3"/>
          <a:stretch/>
        </p:blipFill>
        <p:spPr>
          <a:xfrm>
            <a:off x="4137120" y="2362320"/>
            <a:ext cx="1806480" cy="15238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"/>
          <p:cNvPicPr/>
          <p:nvPr/>
        </p:nvPicPr>
        <p:blipFill>
          <a:blip r:embed="rId4"/>
          <a:stretch/>
        </p:blipFill>
        <p:spPr>
          <a:xfrm>
            <a:off x="6324480" y="2362320"/>
            <a:ext cx="1752840" cy="15238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C:\Users\Tasha\Pictures\2009-10-18\396.JPG"/>
          <p:cNvPicPr/>
          <p:nvPr/>
        </p:nvPicPr>
        <p:blipFill>
          <a:blip r:embed="rId5"/>
          <a:stretch/>
        </p:blipFill>
        <p:spPr>
          <a:xfrm>
            <a:off x="4114800" y="4114800"/>
            <a:ext cx="1905120" cy="1284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C:\Users\Tasha\Pictures\2009-10-18\537.JPG"/>
          <p:cNvPicPr/>
          <p:nvPr/>
        </p:nvPicPr>
        <p:blipFill>
          <a:blip r:embed="rId6"/>
          <a:stretch/>
        </p:blipFill>
        <p:spPr>
          <a:xfrm>
            <a:off x="4114800" y="762120"/>
            <a:ext cx="1778040" cy="1295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8" descr="C:\Users\Tasha\Pictures\2009-10-18\537.JPG"/>
          <p:cNvPicPr/>
          <p:nvPr/>
        </p:nvPicPr>
        <p:blipFill>
          <a:blip r:embed="rId7"/>
          <a:stretch/>
        </p:blipFill>
        <p:spPr>
          <a:xfrm>
            <a:off x="6324480" y="762120"/>
            <a:ext cx="17528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3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riends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nowboard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amp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usic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icture 4" descr="C:\Users\Tasha\Pictures\2009-08-26\093.JPG"/>
          <p:cNvPicPr/>
          <p:nvPr/>
        </p:nvPicPr>
        <p:blipFill>
          <a:blip r:embed="rId2"/>
          <a:stretch/>
        </p:blipFill>
        <p:spPr>
          <a:xfrm>
            <a:off x="5791320" y="5181480"/>
            <a:ext cx="2057400" cy="1524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"/>
          <p:cNvPicPr/>
          <p:nvPr/>
        </p:nvPicPr>
        <p:blipFill>
          <a:blip r:embed="rId3"/>
          <a:stretch/>
        </p:blipFill>
        <p:spPr>
          <a:xfrm>
            <a:off x="4343400" y="3581280"/>
            <a:ext cx="3193920" cy="12956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C:\Users\Tasha\Pictures\2009-10-18\534.JPG"/>
          <p:cNvPicPr/>
          <p:nvPr/>
        </p:nvPicPr>
        <p:blipFill>
          <a:blip r:embed="rId4"/>
          <a:stretch/>
        </p:blipFill>
        <p:spPr>
          <a:xfrm>
            <a:off x="4419720" y="304920"/>
            <a:ext cx="2895480" cy="1322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C:\Users\Tasha\AppData\Local\Microsoft\Windows\Temporary Internet Files\Low\Content.IE5\LECOVS6Z\0418091436[1].jpg"/>
          <p:cNvPicPr/>
          <p:nvPr/>
        </p:nvPicPr>
        <p:blipFill>
          <a:blip r:embed="rId5"/>
          <a:stretch/>
        </p:blipFill>
        <p:spPr>
          <a:xfrm>
            <a:off x="4876920" y="1828800"/>
            <a:ext cx="2133360" cy="16002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C:\Users\Tasha\Pictures\2009-11-03 Phish Festival 8\Phish Festival 8 066.JPG"/>
          <p:cNvPicPr/>
          <p:nvPr/>
        </p:nvPicPr>
        <p:blipFill>
          <a:blip r:embed="rId6"/>
          <a:stretch/>
        </p:blipFill>
        <p:spPr>
          <a:xfrm>
            <a:off x="3276720" y="5181480"/>
            <a:ext cx="205740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19:56:00Z</dcterms:created>
  <dc:creator>Tasha</dc:creator>
  <dc:description/>
  <dc:language>en-US</dc:language>
  <cp:lastModifiedBy>Tasha</cp:lastModifiedBy>
  <dcterms:modified xsi:type="dcterms:W3CDTF">2009-12-11T06:01:31Z</dcterms:modified>
  <cp:revision>26</cp:revision>
  <dc:subject/>
  <dc:title>Tasha Tolbert</dc:title>
</cp:coreProperties>
</file>